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2374-5846-4D20-8790-D840888E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BED-E3F9-4640-AC66-6ABD900A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58B-D032-477B-8517-3894CF0D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56D-932E-4B8C-AFAB-FE37C02F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ED4F-C2C6-4959-9C0B-2974BBB6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F830-76B5-4382-9B96-F453841B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DD43-15D9-45A0-9FD6-8B6AE69F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4E7C-8E60-4AA3-9E72-673F1F84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B5B0-49E9-4AE0-B016-B41E1992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4A33-A719-4C3D-9794-B8090F9E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83C0-5DDD-4D4F-B05A-42E8E960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93E-16F3-477A-A7CE-60BAA57A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AE21-EFC9-495B-A89C-B73DAFFC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15E9-73FD-43C1-A705-B9B556F1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1FEC-59B2-4BE1-88B0-A66A3001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8A09-68DA-4A24-AC41-F1B30FED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C3AF-1C38-4F6A-ADCB-1F4DC5BA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86A-9AAF-4F4C-A610-B886540D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504-C0FE-49E0-B207-63F2D489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A8B-A74C-4D2F-AEB2-930F4113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C7D-8187-46A6-969E-9C99EC5B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443-7619-486D-A4E9-9802F610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2D4-9C22-476B-92F1-E02A231F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1D6-060C-423E-A552-0BAC717E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C21A-D63C-4E39-AF6C-A62E9347AE9F}" type="datetime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2ED0-9C9B-4E32-9DE4-DBC37BF43D4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C564-B3B3-479C-8CAE-CE63CCA27A9F}" type="datetime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FFFE-830D-4727-BFFD-7883E8F5B58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Dichiarazione Universale dei Diritti dell'Uomo </a:t>
            </a:r>
            <a:br>
              <a:rPr sz="4400"/>
            </a:br>
            <a:br>
              <a:rPr sz="4400"/>
            </a:br>
            <a:r>
              <a:rPr b="0" lang="it-IT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Adottata dall'Assemblea Generale delle Nazioni Unite il 10 dicembre 1948 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ED4-F74D-4CCA-B550-50EEB7F8AB4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E6E4B-4950-4C80-A789-F59A60A8F9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Articolo 18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Ogni individuo ha il diritto alla libertà di pensiero, coscienza e di religione; tale diritto include la libertà di cambiare religione o credo, e la libertà di manifestare, isolatamente o in comune, sia in pubblico che in privato, la propria religione o il proprio credo nell'insegnamento, nelle pratiche, nel culto e nell'osservanza dei riti. 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C9FE-6F6D-4D1C-B755-ACE739173C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089C53C-708E-4F86-BB5D-E25E0F994E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Articolo 19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Ogni individuo ha il diritto alla libertà di opinione e di espressione, incluso il diritto di non essere molestato per la propria opinione e quello di cercare, ricevere e diffondere informazioni e idee attraverso ogni mezzo e senza riguardo a frontiere. </a:t>
            </a:r>
            <a:endParaRPr b="0" lang="en-US" sz="4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36FC-D72E-40AA-A6B5-B917962305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F7C054B-7798-4983-8C60-7E32178042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Articolo 23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2) Ogni individuo, senza discriminazione, ha diritto ad eguale retribuzione per eguale lavoro.</a:t>
            </a:r>
            <a:endParaRPr b="0" lang="en-US" sz="6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2BCE-6721-4A5A-BE83-3AA72A4AD9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2BDE729-8477-411C-9DEE-EC18B8FE44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Articolo 24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Ogni individuo ha il diritto al riposo ed allo svago, comprendendo in ciò una ragionevole limitazione delle ore di lavoro e ferie periodiche retribuite.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9839-B833-4E0E-A54D-83E8BD6AA7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3674407-E712-4A45-8F96-EE5B3C8E9F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Articolo 26 c.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1) Ogni individuo ha diritto all'istruzione. L'istruzione deve essere gratuita almeno per quanto riguarda le classi elementari e fondamentali. L'istruzione elementare deve essere obbligatoria. L'istruzione tecnica e professionale deve essere messa alla portata di tutti e l'istruzione superiore deve essere egualmente accessibile a tutti sulla base del merito.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F4B0-8261-40F3-BC5F-A5AC2D2ED86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0D8CDAD-39FD-413E-A450-3DC58F235B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Articolo 26 cc. 2 - 3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2) L'istruzione deve essere indirizzata al pieno sviluppo della personalità umana ed al rafforzamento del rispetto dei diritti dell'uomo e delle libertà fondamentali. Essa deve promuovere la comprensione, la tolleranza, l'amicizia fra tutte le Nazioni, i gruppi razziali e religiosi, e deve favorire l'opera delle Nazioni Unite per il mantenimento della pace.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3) I genitori hanno diritto di priorità nella scelta di istruzione da impartire ai loro figli.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9088-117C-47A2-BA15-F707B2FEA4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768CBF8-C65D-4A4F-8494-ADCE5EECEA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Articolo 27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1) Ogni individuo ha diritto di prendere parte liberamente alla vita culturale della comunità, di godere delle arti e di partecipare al progresso scientifico ed ai suoi benefici.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2) Ogni individuo ha diritto alla protezione degli interessi morali e materiali derivanti da ogni produzione scientifica, letteraria e artistica di cui egli sia autore.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B986-E2ED-4717-B8AD-9944A6BA61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EEC527F-59DD-491F-BE42-34087B340D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Articolo 29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1) Ogni individuo ha dei doveri verso la comunità, nella quale soltanto è possibile il libero e pieno sviluppo della sua personalità.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2) Nell'esercizio dei suoi diritti e delle sue libertà, ognuno deve essere sottoposto soltanto a quelle limitazioni che sono stabilite dalla legge per assicurare il riconoscimento e il rispetto dei diritti e della libertà degli altri e per soddisfare le giuste esigenze della morale, dell'ordine pubblico e del benessere generale in una società democratica.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F15E-6469-414B-9719-47AF4FCC26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98BCEFD-85CB-47C5-824F-CAB4798E06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Considerato che il disconoscimento e il disprezzo dei diritti dell'uomo hanno portato ad atti di barbarie che offendono la coscienza dell'umanità, e che l'avvento di un mondo in cui gli esseri umani godono della libertà di parola e di credo e della libertà dal timore e dal bisogno è stato proclamato come la più alta aspirazione dell'uomo; considerato che è indispensabile che i diritti dell'uomo siano protetti da norme giuridiche, se si vuole evitare che l'uomo sia costretto a ricorrere, come ultima istanza, alla ribellione contro la tirannia e l'oppressione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88E-22A3-425C-97F6-24B7BB1CD84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F126E-5943-44FF-BA1E-9CBF250818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Articolo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1) Ad ogni individuo spettano tutti i diritti e tutte le libertà enunciati nella presente Dichiarazione, senza distinzione alcuna, per ragioni di razza, di colore, di sesso, di lingua, di religione, di opinione politica o di altro genere, di origine nazionale o sociale, di ricchezza, di nascita o di altra condizione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D4E4-6986-4AD1-9E98-AED4A81334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0AD2922-09B0-4CB5-9F59-D4543E4B35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Articolo 5 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20570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Nessun individuo potrà essere sottoposto a trattamento o punizioni crudeli, inumani o degradanti. 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5952-CF9B-4239-A172-E110BFA67C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254D03F-5826-4505-967F-1D7E9F81D2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Articolo 6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Ogni individuo ha diritto, in ogni luogo, al riconoscimento della sua personalità giuridica. </a:t>
            </a:r>
            <a:endParaRPr b="0" lang="en-US" sz="5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02AB-F524-4F24-8792-04FEB4F0BA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6386A65-79E1-4E70-9FA7-E70D4435C1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Articolo 7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2280" y="91404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Tutti sono eguali dinanzi alla legge e hanno diritto, senza alcuna discriminazione, ad un'eguale tutela da parte della legge. Tutti hanno diritto ad un'eguale tutela contro ogni discriminazione che violi la presente Dichiarazione come contro qualsiasi incitamento a tale discriminazione. 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643E-0D23-4348-9F35-4F0DF22674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0BE15D7-23FE-4240-A27D-21C8CF6554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Articolo 8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O</a:t>
            </a:r>
            <a:r>
              <a:rPr b="0" lang="en-US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gni individuo ha diritto ad un'effettiva possibilità di ricorso a competenti tribunali nazionali contro atti che violino i diritti fondamentali a lui riconosciuti dalla costituzione o dalla legge. 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F1AA-5FD2-4B8F-B1BA-709E581047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1A880E2-0545-463F-ACBE-F97C4C7C89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Articolo 1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1) Ogni individuo accusato di reato è presunto innocente sino a che la sua colpevolezza non sia stata provata legalmente in un pubblico processo nel quale egli abbia avuto tutte le garanzie per la sua difesa.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F643-2AF0-4DF9-8349-2D5887DC7F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E08D044-52FA-4AE5-A481-B407F74828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Articolo 1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Nessun individuo potrà essere sottoposto ad interferenze arbitrarie nella sua vita privata, nella sua famiglia, nella sua casa, nella sua corrispondenza, né a lesioni del suo onore e della sua reputazione. Ogni individuo ha diritto ad </a:t>
            </a:r>
            <a:br>
              <a:rPr sz="4000"/>
            </a:br>
            <a:r>
              <a:rPr b="0" lang="en-US" sz="4000" spc="-1" strike="noStrike">
                <a:solidFill>
                  <a:srgbClr val="402000"/>
                </a:solidFill>
                <a:latin typeface="Comic Sans MS"/>
                <a:ea typeface="Times New Roman"/>
              </a:rPr>
              <a:t>essere tutelato dalla legge contro tali interferenze o lesioni. </a:t>
            </a:r>
            <a:endParaRPr b="0" lang="en-US" sz="4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1610-A944-45A6-BB31-03853245BA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098D1B7-8C33-4B85-A6E5-2A7F7702DB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3T14:03:11Z</dcterms:created>
  <dc:creator>iSP. Luigi Torchio</dc:creator>
  <dc:description/>
  <dc:language>en-US</dc:language>
  <cp:lastModifiedBy>Ispettore Luigi Torchio - Dir. Scol. Reg. FVG</cp:lastModifiedBy>
  <cp:lastPrinted>2000-01-23T21:37:06Z</cp:lastPrinted>
  <dcterms:modified xsi:type="dcterms:W3CDTF">2002-08-14T21:59:20Z</dcterms:modified>
  <cp:revision>7</cp:revision>
  <dc:subject/>
  <dc:title>Dichiarazione Universale dei Diritti dell'Uomo  adottata dall'Assemblea Generale delle Nazioni Unite il 10 dicembre 1948  </dc:title>
</cp:coreProperties>
</file>